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9FD-FCB1-413D-B965-7917A808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18B-BCC5-451C-80ED-47F34B47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9CD-2266-4EAB-B49F-DF9A46FB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20B-C987-4885-A607-3B1338A8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A83-B663-4AE0-A52D-5290306F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8C0-EC3B-4F52-AAC6-560A9514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E0D-0F32-43CC-8641-B6494A10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373-51EB-42F9-AD90-C1CFBCD6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A6F-46A1-4430-9390-2CC96D68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044-68D4-49DF-97F3-472A044B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7B9-EC32-4C01-992B-8A51E0A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75A-A026-4E65-A0ED-745A70C4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54D7-CF5E-4717-A801-9C2992DBA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1066680"/>
            <a:ext cx="7696080" cy="288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Monotype Corsiva"/>
              </a:rPr>
              <a:t>Без Исус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6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3880" y="228600"/>
            <a:ext cx="6340680" cy="612684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Ех,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те нямат царството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Без Исус , без смисъл           ти вървиш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и не можеш пътя                        да устоиш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Без Исус /знай/                               не си щастли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wedg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14600" y="304920"/>
            <a:ext cx="4435560" cy="545652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ffffff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/ Живота ти ще се промени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Душата ти ще се спаси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 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Ех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 ела при Христ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ой протяга към теб ръ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4000">
    <p:wipe dir="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1920" y="0"/>
            <a:ext cx="9916200" cy="466596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ffffff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6000" spc="-1" strike="noStrike">
                <a:solidFill>
                  <a:srgbClr val="000000"/>
                </a:solidFill>
                <a:latin typeface="Monotype Corsiva"/>
              </a:rPr>
              <a:t>Живееш ти в този свя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6000" spc="-1" strike="noStrike">
                <a:solidFill>
                  <a:srgbClr val="000000"/>
                </a:solidFill>
                <a:latin typeface="Monotype Corsiva"/>
              </a:rPr>
              <a:t>Животът ти е пълен а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6000" spc="-1" strike="noStrike">
                <a:solidFill>
                  <a:srgbClr val="000000"/>
                </a:solidFill>
                <a:latin typeface="Monotype Corsiva"/>
              </a:rPr>
              <a:t>/ Мислиш с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6000" spc="-1" strike="noStrike">
                <a:solidFill>
                  <a:srgbClr val="000000"/>
                </a:solidFill>
                <a:latin typeface="Monotype Corsiva"/>
              </a:rPr>
              <a:t>че си щастлив сега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6000" spc="-1" strike="noStrike">
                <a:solidFill>
                  <a:srgbClr val="000000"/>
                </a:solidFill>
                <a:latin typeface="Monotype Corsiva"/>
              </a:rPr>
              <a:t>но това е заблуда. /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split dir="in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61240" y="228600"/>
            <a:ext cx="6401520" cy="34455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66"/>
                </a:solidFill>
                <a:latin typeface="Times New Roman"/>
              </a:rPr>
              <a:t>Живееш ти в този свя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66"/>
                </a:solidFill>
                <a:latin typeface="Times New Roman"/>
              </a:rPr>
              <a:t>Животът ти е пълен а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66"/>
                </a:solidFill>
                <a:latin typeface="Times New Roman"/>
              </a:rPr>
              <a:t>/ Мислиш с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66"/>
                </a:solidFill>
                <a:latin typeface="Times New Roman"/>
              </a:rPr>
              <a:t>че си щастлив сег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66"/>
                </a:solidFill>
                <a:latin typeface="Times New Roman"/>
              </a:rPr>
              <a:t>но това е заблуда. /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720720"/>
            <a:ext cx="5638680" cy="813780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566768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Ех, да нямаш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Царството Му,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без Исус,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без смисъл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ти вървиш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и не можеш път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да устоиш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Без Исус не 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Times New Roman"/>
              </a:rPr>
              <a:t>щастли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comb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1080" y="797040"/>
            <a:ext cx="5410440" cy="612684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9999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99"/>
                </a:solidFill>
                <a:latin typeface="Times New Roman"/>
              </a:rPr>
              <a:t>Ех, да нямам Царството му, </a:t>
            </a: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i="1" lang="bg-BG" sz="4400" spc="-1" strike="noStrike">
                <a:solidFill>
                  <a:srgbClr val="000099"/>
                </a:solidFill>
                <a:latin typeface="Times New Roman"/>
              </a:rPr>
              <a:t>без Исус,</a:t>
            </a: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bg-BG" sz="4400" spc="-1" strike="noStrike">
                <a:solidFill>
                  <a:srgbClr val="000099"/>
                </a:solidFill>
                <a:latin typeface="Times New Roman"/>
              </a:rPr>
              <a:t>без смисъл ти вървиш</a:t>
            </a: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r>
              <a:rPr b="1" i="1" lang="bg-BG" sz="4400" spc="-1" strike="noStrike">
                <a:solidFill>
                  <a:srgbClr val="000099"/>
                </a:solidFill>
                <a:latin typeface="Times New Roman"/>
              </a:rPr>
              <a:t> и</a:t>
            </a: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bg-BG" sz="4400" spc="-1" strike="noStrike">
                <a:solidFill>
                  <a:srgbClr val="000099"/>
                </a:solidFill>
                <a:latin typeface="Times New Roman"/>
              </a:rPr>
              <a:t>не можеш път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99"/>
                </a:solidFill>
                <a:latin typeface="Times New Roman"/>
              </a:rPr>
              <a:t>да устоиш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99"/>
                </a:solidFill>
                <a:latin typeface="Times New Roman"/>
              </a:rPr>
              <a:t>без Исус не 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000099"/>
                </a:solidFill>
                <a:latin typeface="Times New Roman"/>
              </a:rPr>
              <a:t>щастли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29000" y="304920"/>
            <a:ext cx="5121360" cy="594324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4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Живота ти ще се промен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Душата ти ще се спаси.  /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Ех, ела при Христа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.                 </a:t>
            </a: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ой протяга към теб ръ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split dir="in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95280" y="838080"/>
            <a:ext cx="6721560" cy="448092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Спри сега при кръс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кръвта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у за теб още тече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/ Не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у отказвай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бича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те, обича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Times New Roman"/>
              </a:rPr>
              <a:t>Застани на колене. /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9000">
    <p:wipe dir="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5000" y="380880"/>
            <a:ext cx="7270200" cy="41158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8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ffff"/>
                </a:solidFill>
                <a:latin typeface="Times New Roman"/>
              </a:rPr>
              <a:t>Спри сега при кръст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ffff"/>
                </a:solidFill>
                <a:latin typeface="Times New Roman"/>
              </a:rPr>
              <a:t>кръвта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bg-BG" sz="4400" spc="-1" strike="noStrike">
                <a:solidFill>
                  <a:srgbClr val="ffffff"/>
                </a:solidFill>
                <a:latin typeface="Times New Roman"/>
              </a:rPr>
              <a:t>у за теб още тече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ffff"/>
                </a:solidFill>
                <a:latin typeface="Times New Roman"/>
              </a:rPr>
              <a:t>/ Не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bg-BG" sz="4400" spc="-1" strike="noStrike">
                <a:solidFill>
                  <a:srgbClr val="ffffff"/>
                </a:solidFill>
                <a:latin typeface="Times New Roman"/>
              </a:rPr>
              <a:t>у отказвай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bg-BG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bg-BG" sz="4400" spc="-1" strike="noStrike">
                <a:solidFill>
                  <a:srgbClr val="ffffff"/>
                </a:solidFill>
                <a:latin typeface="Times New Roman"/>
              </a:rPr>
              <a:t>бича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bg-BG" sz="4400" spc="-1" strike="noStrike">
                <a:solidFill>
                  <a:srgbClr val="ffffff"/>
                </a:solidFill>
                <a:latin typeface="Times New Roman"/>
              </a:rPr>
              <a:t>те, обича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bg-BG" sz="44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bg-BG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ffff"/>
                </a:solidFill>
                <a:latin typeface="Times New Roman"/>
              </a:rPr>
              <a:t>Застани на колене. 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comb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400" spc="-1" strike="noStrike">
                <a:solidFill>
                  <a:srgbClr val="ffffff"/>
                </a:solidFill>
                <a:latin typeface="Times New Roman"/>
              </a:rPr>
              <a:t>Ех,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bg-BG" sz="5400" spc="-1" strike="noStrike">
                <a:solidFill>
                  <a:srgbClr val="ffffff"/>
                </a:solidFill>
                <a:latin typeface="Times New Roman"/>
              </a:rPr>
              <a:t>те нямат                царството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bg-BG" sz="5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bg-BG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400" spc="-1" strike="noStrike">
                <a:solidFill>
                  <a:srgbClr val="ffffff"/>
                </a:solidFill>
                <a:latin typeface="Times New Roman"/>
              </a:rPr>
              <a:t>Без Исус, без смисъл                      ти вървиш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400" spc="-1" strike="noStrike">
                <a:solidFill>
                  <a:srgbClr val="ffffff"/>
                </a:solidFill>
                <a:latin typeface="Times New Roman"/>
              </a:rPr>
              <a:t>и не можеш пътя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i="1" lang="bg-BG" sz="5400" spc="-1" strike="noStrike">
                <a:solidFill>
                  <a:srgbClr val="ffffff"/>
                </a:solidFill>
                <a:latin typeface="Times New Roman"/>
              </a:rPr>
              <a:t>да устоиш 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400" spc="-1" strike="noStrike">
                <a:solidFill>
                  <a:srgbClr val="ffffff"/>
                </a:solidFill>
                <a:latin typeface="Times New Roman"/>
              </a:rPr>
              <a:t>Без Исус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i="1" lang="bg-BG" sz="5400" spc="-1" strike="noStrike">
                <a:solidFill>
                  <a:srgbClr val="ffffff"/>
                </a:solidFill>
                <a:latin typeface="Times New Roman"/>
              </a:rPr>
              <a:t>не си щастлив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pull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6:09:48Z</dcterms:created>
  <dc:creator>TrifonTrifonow</dc:creator>
  <dc:description/>
  <dc:language>en-US</dc:language>
  <cp:lastModifiedBy>TrifonTrifonow</cp:lastModifiedBy>
  <dcterms:modified xsi:type="dcterms:W3CDTF">2005-12-28T06:10:06Z</dcterms:modified>
  <cp:revision>1</cp:revision>
  <dc:subject/>
  <dc:title>Slide 1</dc:title>
</cp:coreProperties>
</file>